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1C6-01EF-4F60-B195-4C48B54A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4DB-6CA3-4DE6-B770-FC4B8A11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7AE-ADD9-4D5D-BADC-AC365F1D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048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744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048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744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B55-7B5A-4602-9100-75D8BE5B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57FC-276B-4399-9695-D6D84C03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C954-AFCB-439A-ABCA-C140C657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2DD9-D4F3-47BA-B50B-EED346FF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8555-E6AA-4F2D-A305-221771DB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883D-0702-4540-B2C4-D25EF2A5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5CB4-4C3A-41FA-9BF2-B60D7117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675A-85BD-4B83-BCF8-788C8D87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7FD-D1CB-4AA4-BB6E-CB8E3A1A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992A-FDE0-4F1C-B64A-64037741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82F9-FCB9-460B-9651-4A6C0033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CDBC-DB97-4572-B02D-1B4768C9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8AC8-E72F-4AF8-B329-C7DD42C4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0048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744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0048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744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1C61-A9DC-4138-9C4C-BEAF81ED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B6818-7C37-4854-81FA-DA66E73C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4CC6E-64E3-428D-AD11-093D7B6B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003F-8DD1-4CBC-8257-2CA71617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D7AA7-DC35-4443-8E0B-9594437B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6FD3-5060-436F-9DEE-55F2B35F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979-C6F7-46BF-8551-AF1F17F2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2A099-1E87-441F-A5E7-4945DAAA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281E7-4A1E-46F5-A2FB-56749A54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876C8-2121-418C-88FC-7BCF4554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F5012-5F00-48DA-9313-80BC1707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F8C8A-39EE-4B6C-9D8F-005A1955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270D0-DE98-4622-9884-B8FA20EB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0048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6744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0048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6744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1EBF1-011D-4156-9C9E-CD7297F8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783DD-B214-4FB6-9D78-312A8F74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56337-5AE6-448A-A3C6-4E2B24C1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26D43-65BD-472D-9679-E83C76F6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6EA-13F0-427B-B680-A83623C1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6BA63-D6B9-48AF-BD51-E50786DD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8F73B-DAE1-4F9C-8033-514EF148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A4D30-E91D-4F4C-AF5A-39868FF1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DBB99-D7F7-4C3E-9276-C0B2B8A5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E769D-028D-4E06-946F-005F4BE8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F1FC3-3026-4190-8161-977CF3EA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A8C26-A935-4B95-BF6B-DC883307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22891-E7F1-443B-9306-424D0942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0048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6744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335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0048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6744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70A68-A51F-4857-8AE7-E3B8049F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FCFB9-E9F6-47B4-ACF6-6429C9B6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E69-716F-419F-84A5-42771ED9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B7E9F-A307-4E4C-B91D-E8312F52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AABAF-5A89-4B05-B86C-C8D1DE3B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D334B-1968-415C-BA69-7004232B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1C565-E76B-4F0D-83C4-9D0AC7AA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BD0D7-30D3-4E47-8471-609D8A1B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B32E2-077F-42C9-84A1-75C90AA2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D977B-746A-4E4C-9493-7D9B3AAD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59863-0CA5-4AA9-93F0-B238E18D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53C63-D670-4CB3-BE3C-70B0881A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ADD6B-07C5-43B1-87C7-A7CD5D66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8AD-2E19-47EB-A195-1E82291E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0048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6744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335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0048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6744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BBD27-85A6-44F8-97B0-9F79BADD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85E-92D1-4AAC-9776-F7C0E102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375C-4432-4813-97D1-74DCA079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46A-C1FF-4C8C-B201-1A12EC54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C90B-B421-45DD-9111-6DCEBB5DBE29}" type="slidenum">
              <a:rPr b="0" lang="en-US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1143-ED10-46FD-B960-0E894C6B111F}" type="slidenum">
              <a:rPr b="0" lang="en-US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91A6-F8D4-4686-AC5D-620DF7C7170D}" type="slidenum">
              <a:rPr b="0" lang="en-US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6435-4F1C-4802-BC09-F18509AF5641}" type="slidenum">
              <a:rPr b="0" lang="en-US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FE6C-00EA-40E1-916A-5B42CBC343C9}" type="slidenum">
              <a:rPr b="0" lang="en-US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screencast.com/t/NDU5OWU4" TargetMode="External"/><Relationship Id="rId4" Type="http://schemas.openxmlformats.org/officeDocument/2006/relationships/hyperlink" Target="http://screencast.com/t/OWNjOWU0MW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hyperlink" Target="http://screencast.com/t/z0RrQ3PESP7P" TargetMode="External"/><Relationship Id="rId5" Type="http://schemas.openxmlformats.org/officeDocument/2006/relationships/hyperlink" Target="http://screencast.com/t/vQcbquUj" TargetMode="External"/><Relationship Id="rId6" Type="http://schemas.openxmlformats.org/officeDocument/2006/relationships/hyperlink" Target="http://screencast.com/t/aahVtAyNyQy" TargetMode="External"/><Relationship Id="rId7" Type="http://schemas.openxmlformats.org/officeDocument/2006/relationships/hyperlink" Target="http://screencast.com/t/OCtxWJxzOM" TargetMode="Externa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cadc6"/>
                </a:solidFill>
                <a:latin typeface="Verdana"/>
              </a:rPr>
              <a:t>No More Sub Notes!</a:t>
            </a:r>
            <a:endParaRPr b="1" lang="en-US" sz="45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11923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766b"/>
                </a:solidFill>
                <a:latin typeface="Verdana"/>
              </a:rPr>
              <a:t>Presented by Lenessa Keeh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766b"/>
                </a:solidFill>
                <a:latin typeface="Verdana"/>
              </a:rPr>
              <a:t>6-12 Business/Computer Tea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766b"/>
                </a:solidFill>
                <a:latin typeface="Verdana"/>
              </a:rPr>
              <a:t>Internship Coordin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766b"/>
                </a:solidFill>
                <a:latin typeface="Verdana"/>
              </a:rPr>
              <a:t>Lead-Deadwood School Distri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Ready, Get Set, Go!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y/Paste into “Sub Notes” for your replac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rybody is on the same p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misundersta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r expectation from substitute teacher and stud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New and Improved SubNotes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esignated page for each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video cl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for 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for teacher expla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for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snapsh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when an explanation isn’t necess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s a supplemental vis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New and Improved SubNotes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napsh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 area of computer screen to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imum area to use: size of scre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14400" y="3124080"/>
            <a:ext cx="2378160" cy="1295640"/>
            <a:chOff x="914400" y="3124080"/>
            <a:chExt cx="2378160" cy="1295640"/>
          </a:xfrm>
        </p:grpSpPr>
        <p:pic>
          <p:nvPicPr>
            <p:cNvPr id="251" name="Picture 3" descr=""/>
            <p:cNvPicPr/>
            <p:nvPr/>
          </p:nvPicPr>
          <p:blipFill>
            <a:blip r:embed="rId1"/>
            <a:srcRect l="10001" t="0" r="76668" b="86673"/>
            <a:stretch/>
          </p:blipFill>
          <p:spPr>
            <a:xfrm>
              <a:off x="1219320" y="3124080"/>
              <a:ext cx="207324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Box 5"/>
            <p:cNvSpPr/>
            <p:nvPr/>
          </p:nvSpPr>
          <p:spPr>
            <a:xfrm>
              <a:off x="914400" y="31240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4038480" y="3124080"/>
            <a:ext cx="4267440" cy="2952720"/>
            <a:chOff x="4038480" y="3124080"/>
            <a:chExt cx="4267440" cy="2952720"/>
          </a:xfrm>
        </p:grpSpPr>
        <p:pic>
          <p:nvPicPr>
            <p:cNvPr id="254" name="Picture 2" descr=""/>
            <p:cNvPicPr/>
            <p:nvPr/>
          </p:nvPicPr>
          <p:blipFill>
            <a:blip r:embed="rId2"/>
            <a:srcRect l="0" t="0" r="16128" b="0"/>
            <a:stretch/>
          </p:blipFill>
          <p:spPr>
            <a:xfrm>
              <a:off x="4343040" y="3124080"/>
              <a:ext cx="396288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Box 7"/>
            <p:cNvSpPr/>
            <p:nvPr/>
          </p:nvSpPr>
          <p:spPr>
            <a:xfrm>
              <a:off x="4038480" y="31240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2"/>
          <p:cNvGrpSpPr/>
          <p:nvPr/>
        </p:nvGrpSpPr>
        <p:grpSpPr>
          <a:xfrm>
            <a:off x="914400" y="5105520"/>
            <a:ext cx="2403000" cy="368280"/>
            <a:chOff x="914400" y="5105520"/>
            <a:chExt cx="2403000" cy="368280"/>
          </a:xfrm>
        </p:grpSpPr>
        <p:sp>
          <p:nvSpPr>
            <p:cNvPr id="257" name="Rectangle 10"/>
            <p:cNvSpPr/>
            <p:nvPr/>
          </p:nvSpPr>
          <p:spPr>
            <a:xfrm>
              <a:off x="1222560" y="5105520"/>
              <a:ext cx="209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8dc765"/>
                  </a:solidFill>
                  <a:uFillTx/>
                  <a:latin typeface="Arial"/>
                  <a:hlinkClick r:id="rId3"/>
                </a:rPr>
                <a:t>Snapshot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1"/>
            <p:cNvSpPr/>
            <p:nvPr/>
          </p:nvSpPr>
          <p:spPr>
            <a:xfrm>
              <a:off x="914400" y="5105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914400" y="5562720"/>
            <a:ext cx="2666880" cy="368280"/>
            <a:chOff x="914400" y="5562720"/>
            <a:chExt cx="2666880" cy="368280"/>
          </a:xfrm>
        </p:grpSpPr>
        <p:sp>
          <p:nvSpPr>
            <p:cNvPr id="260" name=""/>
            <p:cNvSpPr/>
            <p:nvPr/>
          </p:nvSpPr>
          <p:spPr>
            <a:xfrm>
              <a:off x="1219320" y="556272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8dc765"/>
                  </a:solidFill>
                  <a:uFillTx/>
                  <a:latin typeface="Arial"/>
                  <a:hlinkClick r:id="rId4"/>
                </a:rPr>
                <a:t>Snapshot Exampl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1"/>
            <p:cNvSpPr/>
            <p:nvPr/>
          </p:nvSpPr>
          <p:spPr>
            <a:xfrm>
              <a:off x="914400" y="5562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New and Improved SubNotes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Cl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 area of computer screen to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imum recording time = 5 min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4" name="Group 6"/>
          <p:cNvGrpSpPr/>
          <p:nvPr/>
        </p:nvGrpSpPr>
        <p:grpSpPr>
          <a:xfrm>
            <a:off x="838080" y="3200400"/>
            <a:ext cx="2378160" cy="1295280"/>
            <a:chOff x="838080" y="3200400"/>
            <a:chExt cx="2378160" cy="1295280"/>
          </a:xfrm>
        </p:grpSpPr>
        <p:pic>
          <p:nvPicPr>
            <p:cNvPr id="265" name="Picture 3" descr=""/>
            <p:cNvPicPr/>
            <p:nvPr/>
          </p:nvPicPr>
          <p:blipFill>
            <a:blip r:embed="rId1"/>
            <a:srcRect l="10001" t="0" r="76668" b="86673"/>
            <a:stretch/>
          </p:blipFill>
          <p:spPr>
            <a:xfrm>
              <a:off x="1143000" y="3200400"/>
              <a:ext cx="2073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Box 5"/>
            <p:cNvSpPr/>
            <p:nvPr/>
          </p:nvSpPr>
          <p:spPr>
            <a:xfrm>
              <a:off x="838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8"/>
          <p:cNvSpPr/>
          <p:nvPr/>
        </p:nvSpPr>
        <p:spPr>
          <a:xfrm>
            <a:off x="-160020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2"/>
          <p:cNvGrpSpPr/>
          <p:nvPr/>
        </p:nvGrpSpPr>
        <p:grpSpPr>
          <a:xfrm>
            <a:off x="4572000" y="3124080"/>
            <a:ext cx="3657600" cy="3413160"/>
            <a:chOff x="4572000" y="3124080"/>
            <a:chExt cx="3657600" cy="3413160"/>
          </a:xfrm>
        </p:grpSpPr>
        <p:sp>
          <p:nvSpPr>
            <p:cNvPr id="269" name="TextBox 9"/>
            <p:cNvSpPr/>
            <p:nvPr/>
          </p:nvSpPr>
          <p:spPr>
            <a:xfrm>
              <a:off x="4572000" y="31240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Picture 4" descr=""/>
            <p:cNvPicPr/>
            <p:nvPr/>
          </p:nvPicPr>
          <p:blipFill>
            <a:blip r:embed="rId2"/>
            <a:srcRect l="0" t="25332" r="54168" b="0"/>
            <a:stretch/>
          </p:blipFill>
          <p:spPr>
            <a:xfrm>
              <a:off x="4876560" y="3124080"/>
              <a:ext cx="3353040" cy="341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New and Improved SubNotes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Cl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” your cl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save in online account hi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3" name="Group 5"/>
          <p:cNvGrpSpPr/>
          <p:nvPr/>
        </p:nvGrpSpPr>
        <p:grpSpPr>
          <a:xfrm>
            <a:off x="914400" y="3200400"/>
            <a:ext cx="2754360" cy="2057400"/>
            <a:chOff x="914400" y="3200400"/>
            <a:chExt cx="2754360" cy="2057400"/>
          </a:xfrm>
        </p:grpSpPr>
        <p:pic>
          <p:nvPicPr>
            <p:cNvPr id="274" name="Picture 2" descr=""/>
            <p:cNvPicPr/>
            <p:nvPr/>
          </p:nvPicPr>
          <p:blipFill>
            <a:blip r:embed="rId1"/>
            <a:srcRect l="0" t="72004" r="79169" b="0"/>
            <a:stretch/>
          </p:blipFill>
          <p:spPr>
            <a:xfrm>
              <a:off x="1218960" y="3200400"/>
              <a:ext cx="24498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Box 4"/>
            <p:cNvSpPr/>
            <p:nvPr/>
          </p:nvSpPr>
          <p:spPr>
            <a:xfrm>
              <a:off x="914400" y="32004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4"/>
          <p:cNvGrpSpPr/>
          <p:nvPr/>
        </p:nvGrpSpPr>
        <p:grpSpPr>
          <a:xfrm>
            <a:off x="4952880" y="3200400"/>
            <a:ext cx="3353040" cy="1854360"/>
            <a:chOff x="4952880" y="3200400"/>
            <a:chExt cx="3353040" cy="1854360"/>
          </a:xfrm>
        </p:grpSpPr>
        <p:grpSp>
          <p:nvGrpSpPr>
            <p:cNvPr id="277" name="Group 9"/>
            <p:cNvGrpSpPr/>
            <p:nvPr/>
          </p:nvGrpSpPr>
          <p:grpSpPr>
            <a:xfrm>
              <a:off x="4952880" y="3200400"/>
              <a:ext cx="3353040" cy="896400"/>
              <a:chOff x="4952880" y="3200400"/>
              <a:chExt cx="3353040" cy="896400"/>
            </a:xfrm>
          </p:grpSpPr>
          <p:sp>
            <p:nvSpPr>
              <p:cNvPr id="278" name="TextBox 6"/>
              <p:cNvSpPr/>
              <p:nvPr/>
            </p:nvSpPr>
            <p:spPr>
              <a:xfrm>
                <a:off x="4952880" y="32004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9" name="Picture 3" descr=""/>
              <p:cNvPicPr/>
              <p:nvPr/>
            </p:nvPicPr>
            <p:blipFill>
              <a:blip r:embed="rId2"/>
              <a:srcRect l="68335" t="6666" r="3334" b="80002"/>
              <a:stretch/>
            </p:blipFill>
            <p:spPr>
              <a:xfrm>
                <a:off x="5257440" y="3200400"/>
                <a:ext cx="3048480" cy="896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0" name="Picture 4" descr=""/>
            <p:cNvPicPr/>
            <p:nvPr/>
          </p:nvPicPr>
          <p:blipFill>
            <a:blip r:embed="rId3"/>
            <a:srcRect l="7500" t="7998" r="72504" b="81334"/>
            <a:stretch/>
          </p:blipFill>
          <p:spPr>
            <a:xfrm>
              <a:off x="5257440" y="4038480"/>
              <a:ext cx="3048480" cy="101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1" name="Group 16"/>
          <p:cNvGrpSpPr/>
          <p:nvPr/>
        </p:nvGrpSpPr>
        <p:grpSpPr>
          <a:xfrm>
            <a:off x="609480" y="5486400"/>
            <a:ext cx="2590920" cy="368280"/>
            <a:chOff x="609480" y="5486400"/>
            <a:chExt cx="2590920" cy="368280"/>
          </a:xfrm>
        </p:grpSpPr>
        <p:sp>
          <p:nvSpPr>
            <p:cNvPr id="282" name="TextBox 10"/>
            <p:cNvSpPr/>
            <p:nvPr/>
          </p:nvSpPr>
          <p:spPr>
            <a:xfrm>
              <a:off x="609480" y="54864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5"/>
            <p:cNvSpPr/>
            <p:nvPr/>
          </p:nvSpPr>
          <p:spPr>
            <a:xfrm>
              <a:off x="990360" y="548640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8dc765"/>
                  </a:solidFill>
                  <a:uFillTx/>
                  <a:latin typeface="Arial"/>
                  <a:hlinkClick r:id="rId4"/>
                </a:rPr>
                <a:t>Video Clip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16"/>
          <p:cNvGrpSpPr/>
          <p:nvPr/>
        </p:nvGrpSpPr>
        <p:grpSpPr>
          <a:xfrm>
            <a:off x="4191120" y="5486400"/>
            <a:ext cx="2743200" cy="368280"/>
            <a:chOff x="4191120" y="5486400"/>
            <a:chExt cx="2743200" cy="368280"/>
          </a:xfrm>
        </p:grpSpPr>
        <p:sp>
          <p:nvSpPr>
            <p:cNvPr id="285" name="TextBox 10"/>
            <p:cNvSpPr/>
            <p:nvPr/>
          </p:nvSpPr>
          <p:spPr>
            <a:xfrm>
              <a:off x="4191120" y="548640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5"/>
            <p:cNvSpPr/>
            <p:nvPr/>
          </p:nvSpPr>
          <p:spPr>
            <a:xfrm>
              <a:off x="4594320" y="548640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8dc765"/>
                  </a:solidFill>
                  <a:uFillTx/>
                  <a:latin typeface="Arial"/>
                  <a:hlinkClick r:id="rId5"/>
                </a:rPr>
                <a:t>Video Clip Example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6"/>
          <p:cNvGrpSpPr/>
          <p:nvPr/>
        </p:nvGrpSpPr>
        <p:grpSpPr>
          <a:xfrm>
            <a:off x="1828800" y="5867280"/>
            <a:ext cx="2743200" cy="368280"/>
            <a:chOff x="1828800" y="5867280"/>
            <a:chExt cx="2743200" cy="368280"/>
          </a:xfrm>
        </p:grpSpPr>
        <p:sp>
          <p:nvSpPr>
            <p:cNvPr id="288" name="TextBox 10"/>
            <p:cNvSpPr/>
            <p:nvPr/>
          </p:nvSpPr>
          <p:spPr>
            <a:xfrm>
              <a:off x="1828800" y="586728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5"/>
            <p:cNvSpPr/>
            <p:nvPr/>
          </p:nvSpPr>
          <p:spPr>
            <a:xfrm>
              <a:off x="2232000" y="586728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8dc765"/>
                  </a:solidFill>
                  <a:uFillTx/>
                  <a:latin typeface="Arial"/>
                  <a:hlinkClick r:id="rId6"/>
                </a:rPr>
                <a:t>Video Clip Exampl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6"/>
          <p:cNvGrpSpPr/>
          <p:nvPr/>
        </p:nvGrpSpPr>
        <p:grpSpPr>
          <a:xfrm>
            <a:off x="4800600" y="5867280"/>
            <a:ext cx="2743200" cy="368280"/>
            <a:chOff x="4800600" y="5867280"/>
            <a:chExt cx="2743200" cy="368280"/>
          </a:xfrm>
        </p:grpSpPr>
        <p:sp>
          <p:nvSpPr>
            <p:cNvPr id="291" name="TextBox 10"/>
            <p:cNvSpPr/>
            <p:nvPr/>
          </p:nvSpPr>
          <p:spPr>
            <a:xfrm>
              <a:off x="4800600" y="586728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5"/>
            <p:cNvSpPr/>
            <p:nvPr/>
          </p:nvSpPr>
          <p:spPr>
            <a:xfrm>
              <a:off x="5203800" y="586728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8dc765"/>
                  </a:solidFill>
                  <a:uFillTx/>
                  <a:latin typeface="Arial"/>
                  <a:hlinkClick r:id="rId7"/>
                </a:rPr>
                <a:t>Video Clip Example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Student Accountability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driven instru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student accountable for own lear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2805120"/>
            <a:ext cx="85341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Student Accountability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itute Teacher as a facilit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1295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Questions?  Comments?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complete version of this presentation and other resources listed throughout, please go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Verdana"/>
              </a:rPr>
              <a:t>http://fur.ly/i9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891a7"/>
                </a:solidFill>
                <a:latin typeface="Verdana"/>
              </a:rPr>
              <a:t>http://fur.ly/i98</a:t>
            </a:r>
            <a:endParaRPr b="1" lang="en-US" sz="44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ll resources listed in presentation as well as the presentation itse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adc6"/>
                </a:solidFill>
                <a:latin typeface="Verdana"/>
              </a:rPr>
              <a:t>Preparation, Preparation, and more Preparation</a:t>
            </a:r>
            <a:endParaRPr b="1" lang="en-US" sz="32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erence/Professional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-three days of great stuff for you and your classroom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-three days of organizing, collecting, photo-copy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day of just writing it all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a lessons or activities just to limit excess down time for class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are se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adc6"/>
                </a:solidFill>
                <a:latin typeface="Verdana"/>
              </a:rPr>
              <a:t>Preparation, Preparation, and more Preparation</a:t>
            </a:r>
            <a:endParaRPr b="1" lang="en-US" sz="32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ck child/family emerg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ation of the “quick lesson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hour or two at the school to photocopy, organiz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pefully your backup is enough to cover until you can retu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Upon Return…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eacher went too fast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/She didn’t tell us what to do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ouldn’t get any help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, we didn’t get the handouts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, it didn’t work so we just played games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e/He didn’t know how to use the computer. The projector broke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nter your favorite excuse here.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Translation…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ov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gin as if you weren’t g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w you’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2122200" cy="2819160"/>
          </a:xfrm>
          <a:prstGeom prst="rect">
            <a:avLst/>
          </a:prstGeom>
          <a:ln w="69840">
            <a:solidFill>
              <a:srgbClr val="ff00ff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5791320" y="4495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891a7"/>
                </a:solidFill>
                <a:latin typeface="Arial"/>
              </a:rPr>
              <a:t>A Little Behind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Technology Integration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76160"/>
            <a:ext cx="8183520" cy="99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www.jingproject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2152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Technology Integration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7652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www.wikispaces.co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83772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Technology Integration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www.google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gle Sites (must be a member – log into your iGoogle accou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7696080" cy="17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2362320" y="4800600"/>
            <a:ext cx="48718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03:51:39Z</dcterms:created>
  <dc:creator>LDSD</dc:creator>
  <dc:description/>
  <dc:language>en-US</dc:language>
  <cp:lastModifiedBy>LDSD</cp:lastModifiedBy>
  <dcterms:modified xsi:type="dcterms:W3CDTF">2010-03-15T04:29:03Z</dcterms:modified>
  <cp:revision>43</cp:revision>
  <dc:subject/>
  <dc:title>No More Sub Notes!</dc:title>
</cp:coreProperties>
</file>